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006-554D-4D1C-94EC-1E243BD4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8E3-862B-490A-AB69-C779C5F9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393-CFB3-4EA3-B17D-41764AEE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DCD-607D-4490-9EC5-18F003F9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BB4-8458-4BD5-8E83-B8E9AB49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E28-D5E9-4FB6-8345-25E8932F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8B0-2821-496A-9AAC-0C307C7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FCC-9165-476B-B192-94683CC2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DE4-93C3-4199-BDDB-406D087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CDC-23C5-458D-9AB5-0AE6CF2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6FF-4E9D-499A-9C4D-B4751E9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188-6F4D-41A3-BC0B-1895601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93B5-E2F3-4DA8-BAB7-EF60A6CBE55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2 Pane môj, kým som nepoz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s tebou, Pane, zvíťazí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 cieľu viery dospej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raz tvár tvoju uvid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dnes sa z toho rad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myslím stále na ten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prídeš v sláv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iať si ná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 môj, kým som nepozn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 tvojej lásky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som túžbu pestov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 márnej svetskej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osím ťa vrúc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eň ma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pravú múdro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rdci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to bez bázne konal s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svojim blížnym uškod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verným bol som dieťať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tebou som sa nerad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pusť mi, Otče, blúden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daj zvodu riecť vždy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málo lásky som ti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som len vlastn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ary tvoje, čo som br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sť vďačný byť som neve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uč ma viac ťa milo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za všetko ti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bra som málo vykon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má sa, Pane, chváliť č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ťažkostiam som sa vyhýb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 teba sám sa nezm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v tvojom diele pracov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vahu na to ráč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8:52:57Z</dcterms:modified>
  <cp:revision>21</cp:revision>
  <dc:subject/>
  <dc:title>Je veľký náš Pán, on slávy je Kráľ Nech do všetkých strán  spev vrúcnych znie chvál.</dc:title>
</cp:coreProperties>
</file>